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F9D8-37B9-445C-9ABD-67993AC26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7BEC-97D1-4C74-9725-1F2E9493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3940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097B-667F-41BF-AD5D-0DDBBF83C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39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1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39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1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92BD-AA6D-480C-A140-035F0985A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39C0-74FB-4406-9D66-9940E8A9A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3BE5-ABA8-4988-9168-6D989222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3AA4-37DC-41EE-9C74-0FE7C516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E6EA-C974-402B-B78E-59D468B8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4719-382C-4749-924F-34D1EBAE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47A0-CBD0-4860-8E44-64D2268A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A532-68FE-4472-AC10-C23EE8CB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72C4-27C6-4DE6-B652-811ACE1B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3940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7BFA-8610-4FDB-B77D-391D8BC3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D84D0-2188-46E5-823C-DBF002CC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B4DF-71B8-4B69-A70E-D7858DF8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3940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2BFF-BCD5-48FD-AE26-DD01A018C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639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71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639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71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A679-9067-4C68-B3F8-43A1088D4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C219-3BEB-454F-9DD2-3E2D8E57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0136-7601-4BA1-B1D0-2AA4D67C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DCA3-3CA9-45CF-A5A1-9F8A3B29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8833-D74F-4291-9683-D0746D45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A969-CD1B-43DC-92F0-6406F1E4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3940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AAF6-2A5E-48F5-8444-D5F8A69E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13FC-43B4-41B2-AEE0-1FF0B6FF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7A91-F156-41FD-903E-61B9E72D24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133720"/>
            <a:ext cx="60199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C5EF-EDA6-4D8E-8CA2-C7A492E247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514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Times New Roman"/>
              </a:rPr>
              <a:t>Sir, We Would See Jesu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3200400"/>
            <a:ext cx="6858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Quarter 9, Lesson 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ges 32-3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Jno. 4:46-54; Luke 4:16-36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tt. 4:13-2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0A43-648B-496C-AAC8-71F8DB381C7A}" type="slidenum">
              <a:t>1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Major Points of This Less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fe of Chr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ginning Mini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lilean Mini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erna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ostles Ca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8ADE-7332-41EC-B28A-F78DBEA19F6C}" type="slidenum">
              <a:t>2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A Nobleman Meets Jesus With a Reques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315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sus had reached Cana (see ma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sus was returning from Jerusa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obleman was from Caperna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295280" y="3235320"/>
            <a:ext cx="6410520" cy="3622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 flipH="1" flipV="1">
            <a:off x="3352680" y="4876560"/>
            <a:ext cx="533520" cy="1981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580920" y="4724280"/>
            <a:ext cx="1295640" cy="76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AD4C-3EF3-4C1F-AA34-E46ECAA34E1A}" type="slidenum">
              <a:t>3</a:t>
            </a:fld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The Healing of the Nobleman’s S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lea to heal his 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obing of his fa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omise that his son would l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oof of Jesus’ De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ling at a d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ling instantaneous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latform of the Nobleman’s whole house (conviction in Jesu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9144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hn 4:46-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B4D8-9502-472A-9140-91BF92133548}" type="slidenum">
              <a:t>4</a:t>
            </a:fld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The First Rejection at Nazaret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133720" y="4038480"/>
            <a:ext cx="914400" cy="3812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410080" y="914400"/>
            <a:ext cx="3733920" cy="2600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486400" y="11430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dern Nazare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0" y="914400"/>
            <a:ext cx="3809880" cy="259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BF65-0FBC-4D80-9D06-ABD3AE7CC4F3}" type="slidenum">
              <a:t>5</a:t>
            </a:fld>
          </a:p>
        </p:txBody>
      </p:sp>
    </p:spTree>
  </p:cSld>
  <p:transition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In His Hometown of Nazaret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sus Preaches The Truth In The Synagog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s from Isaiah 6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ims that He is the Messiah predi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 message infuriates the aud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ttempt to kill Him, but He esca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00800" y="838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uke 4:16-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B666-054D-4D12-AA19-69595D3D1285}" type="slidenum">
              <a:t>6</a:t>
            </a:fld>
          </a:p>
        </p:txBody>
      </p:sp>
    </p:spTree>
  </p:cSld>
  <p:transition>
    <p:random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Jesus Moves to Capernau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pernaum becomes His headquar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fulfills Isaiah 9:1-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0" y="9144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tt. 4:13-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4E41-35F3-4A9E-9236-03E9E2BEF31A}" type="slidenum">
              <a:t>7</a:t>
            </a:fld>
          </a:p>
        </p:txBody>
      </p:sp>
    </p:spTree>
  </p:cSld>
  <p:transition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5545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>
            <a:off x="5257800" y="1295280"/>
            <a:ext cx="914400" cy="2133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486400" y="380880"/>
            <a:ext cx="28386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pernau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876920" cy="3295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029200" y="4038480"/>
            <a:ext cx="4114800" cy="2640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62485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uins of ancient Caperna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289548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pproaching Capernaum from the S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8A7B-E7BF-4CB5-B933-419603629460}" type="slidenum">
              <a:t>8</a:t>
            </a:fld>
          </a:p>
        </p:txBody>
      </p:sp>
    </p:spTree>
  </p:cSld>
  <p:transition>
    <p:random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Jesus Calls Four Discip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ing Peter’s boat, He taught the multitu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tching a haul of fish at Jesus’ wo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ter’s sense of sin in the presence of true great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ling Peter, Andrew, James, and John to set their sights on being “fishers of me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2952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 1:16-20; Matt. 4:18-22; Luke 5:1-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5F4F-6B70-4814-8E1D-A4C193E09C25}" type="slidenum">
              <a:t>9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6T14:13:58Z</dcterms:created>
  <dc:creator>Terry W. Benton</dc:creator>
  <dc:description/>
  <dc:language>en-US</dc:language>
  <cp:lastModifiedBy>Frank D Vines</cp:lastModifiedBy>
  <dcterms:modified xsi:type="dcterms:W3CDTF">2006-08-02T23:26:34Z</dcterms:modified>
  <cp:revision>14</cp:revision>
  <dc:subject/>
  <dc:title>Sir, We Would See Jesus</dc:title>
</cp:coreProperties>
</file>